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06C-77E7-4427-AD24-5335971B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5F8-4FC8-401F-9532-AE1170B3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F7931-7D21-449C-BDE8-A4622B56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BA200-AD26-4BE1-A323-BB2651D0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E124E-309A-4B7C-B8F6-3FF6310A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D0BCF-02CA-4228-8770-57AD9786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AF88E-6ADD-46B9-9C94-A59AD834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DF49E-A385-40C6-A10F-81A2B66D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C14BE-19A1-4817-8BBA-7A099580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2CB51-4528-40A3-B28B-AC9CA21D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8BC7D-CA1A-490B-B823-E7CB219E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4B0F7-B434-49A6-A5F6-478FDD15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3E1-9E27-45A7-88D7-87050E91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5AF29-CE0F-4D35-B43F-9241B49E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99C91-57A1-489B-A9CE-D188D6FE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9BAC8-6D29-440C-8959-BDCF28E8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836A7-3E52-4867-ABA5-9608EA08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69754-3F53-4878-B616-1D3A54B2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93AD0-E411-4C57-9B66-4621D15C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2A74E-D29E-4C8E-B87C-F76AD49F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C7754-F98C-4BA3-A71B-31B02A7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86B88-59AC-46C3-ABE8-A475E87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E58D1-8157-41AE-B5CB-85859E06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89C-7EC9-4F1B-B43B-EA451BD7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C78B6-B754-4EF1-9787-62D4E593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E9545-2C09-4970-BD03-13AA8B76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D1BC7-3737-4C50-8C62-230DB108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6DE35-227A-41C3-9233-B3903555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35A3D-0259-4D87-9502-03BEED49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8DDD6-F1D5-4FD0-8004-45255330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4F9F0-21DF-4728-A26F-CE2F8390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7530E-8A9A-49C1-904C-D8030823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26815-3131-4BD7-B2D3-C39FE0A8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2352E-1662-4525-88E5-9F90285C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DD89-0EB3-4121-910B-C28739DB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01873-D78E-4DC2-8159-1A22D9B1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8C249-3DFF-4B15-8F82-80D404A8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D734F-62FF-4988-A904-1240D99A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5F46C-4226-4275-8E74-551527CD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0A30D-E61F-49AD-A874-3BE8E75A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A5916-427B-4DF5-82A6-4F4D8F0B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F1960-FD64-4B2B-8E46-F800F0AA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605B2-83A1-4DF8-864B-7C090BE5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C1706-EFB9-43F3-AEA1-DC33C221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9A6A1-9DBB-4DD1-9295-2D6F2ED3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9F7F-EF2B-49E5-89EF-F109FDEF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4185E-E1A3-4199-B83E-4DE3C11F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BCABE-EDEA-43AD-B7D3-6E89C80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106A6-358B-46C6-8518-A65442DC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FF3B8-519C-4ECF-B12F-7A88818B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EC45F-AC31-476F-8B4E-B841D02E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15A96-8B78-44A3-B3CC-AB045EE2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F5CC3-8583-4E2A-8F4B-187090F5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3F84C-E285-4059-9E09-C8FA2BFD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88F4E-1EF5-4EEA-9BC7-08C8E1D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DFCD6-D9E8-4737-89D7-C25D49DE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ED78-BE06-4230-859E-9299BBA9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6644B-E990-4930-AA9C-09658FB9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C9BCC-F7A7-4E10-92D3-B97D6117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D12FD-E0AC-484F-AE7B-1FA674CE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B53B8-412F-40D2-9AC4-B7EDDADE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E6B15-603F-4B44-9CED-A24F7000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5DDE3-FE6B-47BB-AE47-3646B1E1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1EB97-D7DE-4F99-9262-E1B632E7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A7F12-6ADF-4891-8C17-994E716B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5F605-4DD3-424E-9375-B412A027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B837E-70A7-45B8-A03B-F6A56E56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B6B2-DF24-44EC-BE84-04D0DCA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9DB57-6C95-48D7-A586-02E7BA3C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14D21-8A2C-46CB-BCD4-C1E4F6CD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66C2F-A81B-4645-9B9F-9CB34370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7BD79-3FC5-441C-A519-065AAC07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C50B2-28FE-4CD3-A02E-50EC51F9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CCAD0-D666-4C0F-B780-93496B52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6D4AD-8883-4A55-94A8-D20EC52F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A2F4E-635C-443A-9C14-AD3E2120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DDA35-A587-4FE3-917C-B2C61A53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FA5FB-C0E4-442F-A516-069D8729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2CAF-FA70-4E86-8EFC-0414A0DA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411B6-06D9-4ED4-AE6E-02A53020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7D9F4-B96B-475A-96B9-F4AF4606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17A8B-B06A-49D2-84C6-71CB2586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4D17C-6E6E-425A-96B2-880A3455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F0F1BD-8845-45A0-B8AD-23FCEC80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67E4D-272D-4C39-BC21-07461226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8252B-ED71-4EB9-BAEE-E43D4D25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27639-E908-46DF-80E1-FFDAB969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5CDD7-DD24-4F3A-9672-4EC187E7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89264-D1F6-43D6-BE6C-592DE6BE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810E-1E80-4D86-9840-E667CECA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90CF1-27E5-420A-A4D2-FEA2B324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E5ABF-06D1-42B6-973A-0B0D070E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A2242-2F0A-4892-86A9-0B39127D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D967B5-3F72-40D5-AC5C-62298496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167095-F031-4870-91D8-C900C548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4CBF7-59C1-4884-81B0-DC470F05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F7229D-14C3-41D6-91BA-364C9274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C46CA-4FF4-4CA2-BA28-082633E0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A0FE6-06E8-4FAD-B98E-7D01A69C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EC5CFF-7E53-49C3-9DCA-8B3ECF5F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B965-2505-4880-B00A-CD8CF87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73C75-359F-4A8B-96B6-13796FD4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4DBDD-30A7-4875-B6AC-4E53B17B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2A03B-05E0-4758-BA65-8938BA34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DEAAE-97A4-4A49-B8D1-4A329449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4C31A-6654-4ABF-8B4C-65887D59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F9D6E-2D17-4BAD-AE20-BD81D62F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FD89D-4950-4F3B-90B0-CA477A52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9F24C-7808-4A15-B2DE-6C48D3B0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BF964-D16D-48AD-AEC5-35606C09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A6277-9FE4-40C0-AC02-8D9A90CC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0A8-A07E-4273-838C-438B5E9E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84C3-B843-4FB3-A6F1-C450FC8F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952020-F681-4AA9-B2AF-8152D7ED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C88A37-AA84-4330-8AE0-FC22DDAC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964564-FD5C-4934-9CD3-6958E577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5941E-586E-4B9C-BFE3-BCF1D502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8443B-8D76-4E0C-BB84-939BF279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99A4D-2DC6-4272-915B-52646CD1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5C7A7-AA1C-4DD6-90A6-834406EA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B354A-4F8B-43BC-9880-364606F1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8FCA3-32BD-4021-BFA0-8C585434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B0C1B-9FAD-48F2-9BC7-00780871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6BD4-0610-4432-A7E9-6B2DFFF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132E1D-BA0A-4038-848C-B40DCBD5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CA2FC7-DCBD-45D1-8B6A-58FCF9B7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8933A-4DCE-4846-A4DE-011A6912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E8C79-3C93-4114-AB07-B1858474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0AEDC9-A213-4957-8CD1-133369CF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39003-B531-45AA-9176-7664442A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F8A11-ABEB-45FD-8FEC-4DC4DAA7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FC97F0-5B37-47C8-906C-61866EC0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24825-CF07-4B33-864B-D4083F2A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520E9C-6B9D-455F-8085-966FE701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7062-47AE-44EF-B7E5-9DB603F2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86BA53-17BB-422C-B839-ED4E200E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E2BB1E-1102-4D3D-AEE4-5BCBB513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00C40A-E71A-4F6D-9C33-CA520296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EFAA6-A921-4E52-A547-E25E0E1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79442-7766-4873-AF40-04F595CF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45043-7172-40AF-A162-2367414D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C6ED75-0FC0-436C-9BA8-F15EA052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0C7F1-F153-4A1D-AD76-EAA9427A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D76B9-F83F-4861-BC81-7ACAD3BA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2E2E87-888A-4EB3-9C53-F66C3C5A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1687-49AC-4AC0-8D0C-60D05F31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8DFC4-93EC-41EF-9113-1EDD48AE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9D265-951A-4620-B261-61772DED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20497-235C-43C7-846C-592CAB79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DF7AA8-8E87-41C4-871E-9F655491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DFD21-4B4F-4910-83A4-BCE33119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DE748-A497-4269-B51E-E9F80BE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42836-20A2-42C1-BE61-07FE9710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832C9F-9661-4380-BAF6-2831BD4D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0FECA0-9474-4188-B363-001A4F64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CB77F2-210C-41E6-B0F1-09960A93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0E6D-D49C-4A50-B264-86D41256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92DE5-22F3-4FF0-880E-61682126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24760-5757-4F55-8D98-91EFA44D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4DEB55-960D-4457-9415-1348E628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EE9EAC-46DF-46E5-BA42-F9F9622E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1E592-1C58-44DF-AA7D-A019B9D3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0A1CCF-8B45-4965-B3AC-52A254C6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67A844-94DF-43AC-B8E2-A14E8046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47BF9-CF65-499F-9591-39DED59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52688-F2C1-4ED2-B3A0-C0B0A4B8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B43CF-F87A-4658-A58F-6AAD937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01D6-41BC-44E1-AB95-52672FC4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6F4808-23E9-48FC-83CC-7D539AD7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E0D9D5-33A0-4C0C-8352-F4052EFE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638F0A-6BB6-43A3-98E7-C310E468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1C9E35-A70E-455D-88F0-E5C53455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F274A7-78E8-4913-98D3-63412E68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0E5CB8-F4DD-4849-B1FE-817997AB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2822A5-973E-4C6F-9E16-F0EC1F8C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1FD096-BFB8-41B3-8B38-6DA82BD1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E9AEFC-744D-43C9-B4C2-5C04233E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C448F3-32F0-49F0-AC18-BC1A7D01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51DA-5C4A-458A-80A7-ED89A979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2EE3E9-F1ED-4B0A-8280-C1135F50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F38259-6EDE-4A3E-8343-AADB7D1E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52D6AB-C12D-43D9-B184-EB5EE864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6B5400-FC78-41DB-B498-939957C0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E9A568-FAFB-450A-8A2B-1315CB2A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9DB031-CF71-40A6-86E1-0DEC24A9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990250-F320-414F-96C7-092B8ADE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073652-0C23-415F-874A-08927542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579B31-0788-42F1-9F8D-93EB1357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38B3BC-6818-4822-995B-4550112C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D0E4A-5F60-4032-A8AF-5CA326D0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48A10A-995F-486C-BD45-773E3C1B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BCEA6B-7F12-4C34-A636-0A8D698F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22FE13-96EC-479B-BD1E-EDF2E440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E9267B-FBE6-4DC9-940D-F00737E2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F1E21E-FDA2-434A-82F1-47F82BA2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73995D-1886-434B-8F05-99A90788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94CFD7-0284-4DA5-AD41-2C83F63F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7A9B-A249-4F1C-86CF-C39D2BAF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41DD-BB05-4682-8352-B865BFC5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D77-BAD9-4901-8EBB-BA8760E9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3857E-8929-4DCA-AAE9-85921F8D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3334-3AF7-450A-882E-56ECA30A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886E-8484-4387-89B0-610C560A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D1CF9-5E6F-4B03-8E40-AC0D93F9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CA833-E8F0-4177-AD00-86A32CE5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E479-4F18-42D5-859D-7FB84276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AE71F-0683-40CA-8E1D-F0B990D1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66BA6-A492-434E-A244-5885F5D6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40EFB-7429-4C41-8D58-4616A4AA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C735-27D7-4268-8744-C482317B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DFA-22DE-4B60-A19F-5B9D8EC0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FABC-303F-4FC0-B0BB-9CFD808A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42AD-3F95-4FE8-9479-EB04FABA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24D6-BEC9-41DE-815C-03504180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9DD2-CC47-45B2-B1E1-4911463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586A-58AD-4C49-9CAA-9DD68852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11162-3A42-4619-BC8A-C6D7832E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BD3E8-273F-49A3-B395-0F14D603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6824E-A2DF-4B2D-B6A1-B3C272EE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4B40-E6DA-40F9-A27C-9567789E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E5AE5-1B9A-45C6-8350-6E6FFD28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198-11B1-4CF0-836C-28D9B21C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F97D-CB26-413D-B3ED-FED9A875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84657-6591-41FB-9DC9-15A8D6FA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41C1-56E4-45E5-BD94-868D76C0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9AEBB-3DD6-4715-A6A6-0A008569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C88F5-2B70-429F-B17A-4BD24197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249E-E00A-463C-8301-A220C68C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C2DFA-52E0-427B-BC9C-7671202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CCE95-A1FC-44C1-9C8D-48672A4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DB5A4-8F3B-46DD-B462-CD65357E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7FF5A-2E70-4738-9703-4404347C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031-6093-4C3C-A19E-33400DC8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9509E-C1A8-4D9E-92C6-8AF6220C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9C1E5-55C0-4204-A9EC-E55CCE3B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9599E-FED6-4A79-B017-2D863B2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850A2-20D8-4A49-9F15-5A3C52DE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609CB-3325-4E23-8FAE-0EE0C16B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C9959-B828-4246-8B08-532EA5C9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4DCA1-1B52-4C58-9891-AB7C94BA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541ED-8BAE-44CB-A582-72D17092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84FBC-011C-4652-B7D9-0F7838EB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82429-BF0E-47CF-BF5C-0056183E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E11-9CBC-4886-BE3A-4DFBAD7A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7ADCD-5649-4826-A136-C78E758F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FBDE9-8671-4391-A4DC-9367D448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30A3D-682E-46B9-BA4A-16E763EF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61DA6-E31A-4D49-986D-ED06684A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B9614-7D95-41F0-98F9-F49F573F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38E85-5864-4052-A7BD-D0DE2185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8891C-9F24-4402-8AAB-F2E2F9F6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F7655-2980-4976-A30B-F01F1513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4EA46-6326-40BC-BB45-0BA97CAE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3F70C-0173-4458-81E5-7513CF54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DDB-F65A-41D7-9FC5-16CE6162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70E6E-DE8B-444D-AC9B-794EAF79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331C-2F12-4901-B484-D7148805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50830-81F0-4AB3-A847-5EAFCB6B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1A996-79E9-4A94-ABEB-FBFA1264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5B149-D87A-447A-A100-6B8BA989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D16A6-0714-4C2D-8B83-ECB8A171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CF822-EE22-414A-A66C-3AF6004F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DA0D7-0FE9-40F6-9727-3B540AFD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54854-7223-46D5-B43B-2EAAC7A2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D451C-0A9F-4D2B-9871-2150B2DE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5FC-33AF-473C-B5BD-A0B955C5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C83A4-8C6E-4E7F-AB6D-E4E96EC2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A914A-AA45-4C49-828C-CC2DC2A4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5E8FC-0124-4743-B05D-B54857F0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59F45-D691-4384-9F3E-32E6568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4BB13-75D6-4F79-9870-53D590F8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84AA3-0E58-44B6-80C4-923BF797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1A3A9-478F-40B4-84A9-A420FB6A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A7323-8710-40FF-9642-478792AE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A11DD-65CD-42A3-A47A-D3FDA664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C81FA-A847-480F-AFC1-8296D7F2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0A71-FD92-4B96-BE1A-063C597753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9DD3-7955-40A0-B5D7-3C97B44336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E0F5-433D-4F2A-A322-D89FA6918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98E7-BAF0-4A9F-9572-FBA5D146E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7C61-0EA6-4775-A138-F54025AEC4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BECE-1557-44EB-BC3A-FB4E2B1013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396C-2ECF-45EB-B5CA-E227C7B963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09E0-ED3D-4E33-99CF-D6D0A8DF9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5009-3D5B-48D3-B67C-23E97E1FD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7F41-D024-48EA-AE75-4B26258834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FD47-2DB9-432A-8548-333F1926D7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906C-F5B8-4496-8CE5-BA06B9ADCF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26C-CDA2-45B8-AD9B-E0501F482F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8E4F-D7E1-44AB-9F23-47C46F8609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FB8F-4905-44F2-BDBC-5C35C1BBB4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A049-634E-41E3-9015-48D2BDBF74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B62A-2C35-4F3C-A69F-B879BA3FE6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616C-6397-460C-A861-39F719EA4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37AC-FEEC-4F13-8595-11A9CBB7B5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1F5E-B96C-4EDE-ABCE-92B07A6C8B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36BD-2BFB-4B1E-BC04-07C11269F4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4BEF-28D0-4634-9CBE-823B2D4876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6E45-14D0-4A04-90F1-51D9AACCAE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7CE7-2407-4DF4-AC98-658EBAF662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D311-89B0-483A-9A0B-F33CFF2467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211E-9C2C-42A1-8B75-5B63522F7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10A7-36AC-4C9A-8AE7-7FB2782C7C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AD6C-680B-4B82-A3B7-BBBA65B10F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FC10-2F05-4150-BA21-94671D4F9B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48EB-0BC3-4072-8FBB-D4206EBF0B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2C7A-349E-499A-84A2-877A285D3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C322-7D5D-48BC-A137-11D605CF9C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4809-2640-439C-B7D8-CD00D27022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8287-3D94-4158-B221-555B694C33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9998-8310-40BB-9687-BE409641B6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F3DA-7543-41AA-B7D1-3C36997A51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E168-ABA5-4341-A061-C01B84FE67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845D-5450-45D6-851F-A83D8E6CE3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0A46-9063-4FAE-9E2E-74CED156B4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1CB9-546F-479D-9B4D-EF715687D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F0A4-D5D3-4B40-897D-DA51340F00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CF31-114C-4AC0-80CF-B7CA21AC05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85680" y="2763720"/>
            <a:ext cx="8969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495360" y="1886040"/>
            <a:ext cx="8153280" cy="3085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042920" y="334332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800280" y="1219320"/>
            <a:ext cx="7543800" cy="44193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348000" y="37162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164360" y="3645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276720" y="436572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496280" y="443700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132000" y="5084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667640" y="515772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233280" y="820800"/>
            <a:ext cx="8677440" cy="56577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4211640" y="595008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581040" y="1843200"/>
            <a:ext cx="7981920" cy="31716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583416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1116000" y="4105440"/>
            <a:ext cx="5834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04840" y="1647720"/>
            <a:ext cx="8734320" cy="35625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201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595440" y="1238400"/>
            <a:ext cx="7953120" cy="43812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33130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971640" y="494172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1085760" y="141120"/>
            <a:ext cx="7535880" cy="65757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908000" y="3860640"/>
            <a:ext cx="27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908000" y="4494240"/>
            <a:ext cx="633600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2050920" y="4984920"/>
            <a:ext cx="6553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38040" y="934920"/>
            <a:ext cx="8467920" cy="5781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826920" y="3068640"/>
            <a:ext cx="29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00000" y="3789360"/>
            <a:ext cx="77756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826920" y="4437000"/>
            <a:ext cx="777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71360" y="266760"/>
            <a:ext cx="8801280" cy="6448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4500720" y="6021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5219640" y="602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5867280" y="602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7451640" y="6049800"/>
            <a:ext cx="11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8:2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